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EF4-1162-48D9-AD52-0E832235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56E-8424-41F5-BAF6-1C6EF005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6E6-3C12-4676-A210-200CF8A7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15B-A0A2-44E4-A980-15A89B2B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F0D-296A-426B-B9DA-BC8103F3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72E-A895-49B1-AAD7-B6CF49A5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A23-62BF-48B7-AAF8-5A221EBA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F7E-543D-4E41-B0F6-3B4ED333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240-4574-4310-A28E-EBDE75EE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CE9-2547-4C9B-97FC-D792A7EF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B5E-8B47-4550-8BBD-AEEDA3D2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E73-6552-43A6-8E3D-03B8DF2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903D-49A4-4E2A-9656-973F7DDD1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31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533520" y="0"/>
            <a:ext cx="7848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Franklin Gothic Heavy"/>
              </a:rPr>
              <a:t>Another One of Nature’s Beau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05520" y="4800600"/>
            <a:ext cx="1276200" cy="370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44197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8137440"/>
            <a:ext cx="1843200" cy="100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5181480"/>
            <a:ext cx="3886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Each bottle of Fuze                   Refresh has 100%                              of your                           Recommended                               Daily Allowance                                   of essential                               vitamins and                                    bone building                            calc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18432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18:44Z</dcterms:created>
  <dc:creator>WPS</dc:creator>
  <dc:description/>
  <dc:language>en-US</dc:language>
  <cp:lastModifiedBy>WPS</cp:lastModifiedBy>
  <dcterms:modified xsi:type="dcterms:W3CDTF">2008-06-02T13:43:22Z</dcterms:modified>
  <cp:revision>3</cp:revision>
  <dc:subject/>
  <dc:title>Slide 1</dc:title>
</cp:coreProperties>
</file>